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6B9-80AB-49EF-8766-C4ADADBF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708-DDF9-45A5-82E4-A35D29A5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9BD-97BE-4FCE-97B9-6DE73FF3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7F4-DCAC-4A01-A2FD-B3ED1A1D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14C-97E1-4013-A696-FE26E37D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9FF-E172-457C-B872-43BFF22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528-6366-4A20-95B0-A4E8C20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DFE-0974-488F-8618-4BB00F64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4D6-75C6-474E-B62D-9C8CBC80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3BC-ED51-438D-91F1-867A29E8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BA7-ED5E-4675-9147-A731A74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225-74BA-4BEE-A4C9-D0C4033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A103-2874-44C1-9AA5-B0327BA3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36196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1447920" cy="320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86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iends my name is Suruchi. I wish to tell you an interesting day of my life. That day I was walking on road and found a mobile lying on road. I picked it up and looked for the owner. First I thought to keep it with me but later I thought it was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743200"/>
            <a:ext cx="2133720" cy="1523880"/>
          </a:xfrm>
          <a:prstGeom prst="cloudCallout">
            <a:avLst>
              <a:gd name="adj1" fmla="val 67634"/>
              <a:gd name="adj2" fmla="val 44166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’s wrong in keeping it with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72400" y="4572000"/>
            <a:ext cx="15858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315200" y="3938760"/>
            <a:ext cx="1143000" cy="29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8880" y="1600200"/>
            <a:ext cx="1905120" cy="1219320"/>
          </a:xfrm>
          <a:prstGeom prst="wedgeEllipseCallout">
            <a:avLst>
              <a:gd name="adj1" fmla="val 13249"/>
              <a:gd name="adj2" fmla="val 223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s is this your cell ph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1447920"/>
            <a:ext cx="3048120" cy="1752480"/>
          </a:xfrm>
          <a:prstGeom prst="wedgeEllipseCallout">
            <a:avLst>
              <a:gd name="adj1" fmla="val 82500"/>
              <a:gd name="adj2" fmla="val 1111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h yes, where did you find it? Thank you so much. Without it I am help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0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y conscience told me to return it to its owner. I saw a lady passing that way and asked her about it. She at once recognised it as her cell phone. She was grateful to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118908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10280" y="48769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228600"/>
            <a:ext cx="876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209680"/>
            <a:ext cx="3276720" cy="990720"/>
          </a:xfrm>
          <a:prstGeom prst="wedgeEllipseCallout">
            <a:avLst>
              <a:gd name="adj1" fmla="val 12064"/>
              <a:gd name="adj2" fmla="val 1490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are a nice girl. Where do you l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3352680"/>
            <a:ext cx="1600200" cy="838440"/>
          </a:xfrm>
          <a:prstGeom prst="wedgeEllipseCallout">
            <a:avLst>
              <a:gd name="adj1" fmla="val -22819"/>
              <a:gd name="adj2" fmla="val 177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ive in Dad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t day was a test of my integrity and I passed. Since then that lady became my well wisher and always sends gifts for me. A good deed brought about a great change in m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91320" y="4800600"/>
            <a:ext cx="106668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3938760"/>
            <a:ext cx="1676160" cy="291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819520" y="4495680"/>
            <a:ext cx="137160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ever we do good we feel good and others praise us too. I got praise from my Principal Sir, teachers as well as fellow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133720"/>
            <a:ext cx="3200400" cy="1752480"/>
          </a:xfrm>
          <a:prstGeom prst="wedgeEllipseCallout">
            <a:avLst>
              <a:gd name="adj1" fmla="val -17805"/>
              <a:gd name="adj2" fmla="val 1120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Suruchi. She is honest girl. She can be given respon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352680"/>
            <a:ext cx="2286000" cy="1447920"/>
          </a:xfrm>
          <a:prstGeom prst="wedgeEllipseCallout">
            <a:avLst>
              <a:gd name="adj1" fmla="val -66805"/>
              <a:gd name="adj2" fmla="val 982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r you are right. I made her monitor of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2209680"/>
            <a:ext cx="2286000" cy="2362320"/>
          </a:xfrm>
          <a:prstGeom prst="cloudCallout">
            <a:avLst>
              <a:gd name="adj1" fmla="val -50625"/>
              <a:gd name="adj2" fmla="val 570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all praise Suruchi. I am proud to be he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09:04Z</dcterms:created>
  <dc:creator>student</dc:creator>
  <dc:description/>
  <dc:language>en-US</dc:language>
  <cp:lastModifiedBy>abc</cp:lastModifiedBy>
  <dcterms:modified xsi:type="dcterms:W3CDTF">2010-10-19T15:14:29Z</dcterms:modified>
  <cp:revision>2</cp:revision>
  <dc:subject/>
  <dc:title>A good deed</dc:title>
</cp:coreProperties>
</file>